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0240" y="154080"/>
            <a:ext cx="8775720" cy="5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0600" y="774360"/>
            <a:ext cx="82296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0600" y="3633480"/>
            <a:ext cx="82296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0240" y="154080"/>
            <a:ext cx="8775720" cy="5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0600" y="774360"/>
            <a:ext cx="4015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37640" y="774360"/>
            <a:ext cx="4015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0600" y="3633480"/>
            <a:ext cx="4015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337640" y="3633480"/>
            <a:ext cx="4015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0240" y="154080"/>
            <a:ext cx="8775720" cy="5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0600" y="774360"/>
            <a:ext cx="26496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03040" y="774360"/>
            <a:ext cx="26496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85480" y="774360"/>
            <a:ext cx="26496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0600" y="3633480"/>
            <a:ext cx="26496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03040" y="3633480"/>
            <a:ext cx="26496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85480" y="3633480"/>
            <a:ext cx="26496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0240" y="154080"/>
            <a:ext cx="8775720" cy="5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0600" y="77436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0240" y="154080"/>
            <a:ext cx="8775720" cy="5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0600" y="77436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0240" y="154080"/>
            <a:ext cx="8775720" cy="5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0600" y="774360"/>
            <a:ext cx="4015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337640" y="774360"/>
            <a:ext cx="4015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0240" y="154080"/>
            <a:ext cx="8775720" cy="5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73e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0240" y="154080"/>
            <a:ext cx="877572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0240" y="154080"/>
            <a:ext cx="8775720" cy="5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0600" y="774360"/>
            <a:ext cx="4015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37640" y="774360"/>
            <a:ext cx="4015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0600" y="3633480"/>
            <a:ext cx="4015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0240" y="154080"/>
            <a:ext cx="8775720" cy="5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0600" y="77436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0240" y="154080"/>
            <a:ext cx="8775720" cy="5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0600" y="774360"/>
            <a:ext cx="4015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37640" y="774360"/>
            <a:ext cx="4015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337640" y="3633480"/>
            <a:ext cx="4015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0240" y="154080"/>
            <a:ext cx="8775720" cy="5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0600" y="774360"/>
            <a:ext cx="4015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37640" y="774360"/>
            <a:ext cx="4015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0600" y="3633480"/>
            <a:ext cx="82296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0240" y="154080"/>
            <a:ext cx="8775720" cy="5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0600" y="774360"/>
            <a:ext cx="82296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0600" y="3633480"/>
            <a:ext cx="82296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0240" y="154080"/>
            <a:ext cx="8775720" cy="5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600" y="774360"/>
            <a:ext cx="4015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37640" y="774360"/>
            <a:ext cx="4015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0600" y="3633480"/>
            <a:ext cx="4015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337640" y="3633480"/>
            <a:ext cx="4015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0240" y="154080"/>
            <a:ext cx="8775720" cy="5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0600" y="774360"/>
            <a:ext cx="26496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903040" y="774360"/>
            <a:ext cx="26496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85480" y="774360"/>
            <a:ext cx="26496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0600" y="3633480"/>
            <a:ext cx="26496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903040" y="3633480"/>
            <a:ext cx="26496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85480" y="3633480"/>
            <a:ext cx="26496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0240" y="154080"/>
            <a:ext cx="8775720" cy="5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0600" y="77436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0240" y="154080"/>
            <a:ext cx="8775720" cy="5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0600" y="774360"/>
            <a:ext cx="4015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37640" y="774360"/>
            <a:ext cx="4015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0240" y="154080"/>
            <a:ext cx="8775720" cy="5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0240" y="154080"/>
            <a:ext cx="877572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0240" y="154080"/>
            <a:ext cx="8775720" cy="5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0600" y="774360"/>
            <a:ext cx="4015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37640" y="774360"/>
            <a:ext cx="4015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0600" y="3633480"/>
            <a:ext cx="4015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0240" y="154080"/>
            <a:ext cx="8775720" cy="5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0600" y="774360"/>
            <a:ext cx="4015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37640" y="774360"/>
            <a:ext cx="4015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337640" y="3633480"/>
            <a:ext cx="4015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0240" y="154080"/>
            <a:ext cx="8775720" cy="5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0600" y="774360"/>
            <a:ext cx="4015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37640" y="774360"/>
            <a:ext cx="4015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0600" y="3633480"/>
            <a:ext cx="82296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0600" y="77436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876"/>
              </a:spcBef>
              <a:buClr>
                <a:srgbClr val="01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76"/>
              </a:spcBef>
              <a:buClr>
                <a:srgbClr val="0167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876"/>
              </a:spcBef>
              <a:buClr>
                <a:srgbClr val="01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876"/>
              </a:spcBef>
              <a:buClr>
                <a:srgbClr val="0167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876"/>
              </a:spcBef>
              <a:buClr>
                <a:srgbClr val="01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0240" y="154080"/>
            <a:ext cx="8775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73e"/>
                </a:solidFill>
                <a:latin typeface="Arial Black"/>
              </a:rPr>
              <a:t>Click to edit the title text format</a:t>
            </a:r>
            <a:endParaRPr b="0" lang="en-US" sz="34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2" name="Rectangle 235"/>
          <p:cNvSpPr/>
          <p:nvPr/>
        </p:nvSpPr>
        <p:spPr>
          <a:xfrm>
            <a:off x="95400" y="6492960"/>
            <a:ext cx="1753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4049-F642-416C-9E50-1AB1E2D66241}" type="slidenum">
              <a:rPr b="0" lang="en-US" sz="900" spc="-1" strike="noStrike">
                <a:solidFill>
                  <a:srgbClr val="01673e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1673e"/>
                </a:solidFill>
                <a:latin typeface="Times New Roman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1673e"/>
                </a:solidFill>
                <a:latin typeface="Times New Roman"/>
                <a:ea typeface="Times New Roman"/>
              </a:rPr>
              <a:t>Managed by UT-Battelle</a:t>
            </a:r>
            <a:br>
              <a:rPr sz="900"/>
            </a:br>
            <a:r>
              <a:rPr b="0" lang="en-US" sz="900" spc="-1" strike="noStrike">
                <a:solidFill>
                  <a:srgbClr val="01673e"/>
                </a:solidFill>
                <a:latin typeface="Times New Roman"/>
                <a:ea typeface="Times New Roman"/>
              </a:rPr>
              <a:t>for the Department of Energ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518920" y="6662520"/>
            <a:ext cx="425772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500" spc="-1" strike="noStrike">
                <a:solidFill>
                  <a:srgbClr val="01673e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1673e"/>
                </a:solidFill>
                <a:latin typeface="Times New Roman"/>
                <a:ea typeface="Times New Roman"/>
              </a:rPr>
              <a:t>Change this from View Menu | Header and Footer..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261"/>
          <p:cNvSpPr/>
          <p:nvPr/>
        </p:nvSpPr>
        <p:spPr>
          <a:xfrm>
            <a:off x="7075440" y="3624120"/>
            <a:ext cx="2071800" cy="325152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1673e">
                  <a:alpha val="8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62" descr="ORNL_leaf white"/>
          <p:cNvPicPr/>
          <p:nvPr/>
        </p:nvPicPr>
        <p:blipFill>
          <a:blip r:embed="rId2"/>
          <a:stretch/>
        </p:blipFill>
        <p:spPr>
          <a:xfrm>
            <a:off x="8037360" y="6264360"/>
            <a:ext cx="1074960" cy="557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333333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60" descr="ORNL cover graphic"/>
          <p:cNvPicPr/>
          <p:nvPr/>
        </p:nvPicPr>
        <p:blipFill>
          <a:blip r:embed="rId2"/>
          <a:stretch/>
        </p:blipFill>
        <p:spPr>
          <a:xfrm>
            <a:off x="0" y="988920"/>
            <a:ext cx="5065560" cy="50356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245"/>
          <p:cNvSpPr/>
          <p:nvPr/>
        </p:nvSpPr>
        <p:spPr>
          <a:xfrm>
            <a:off x="127080" y="6496200"/>
            <a:ext cx="32781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1673e"/>
                </a:solidFill>
                <a:latin typeface="Times New Roman"/>
                <a:ea typeface="Times New Roman"/>
              </a:rPr>
              <a:t>Managed by UT-Battelle</a:t>
            </a:r>
            <a:br>
              <a:rPr sz="900"/>
            </a:br>
            <a:r>
              <a:rPr b="1" lang="en-US" sz="900" spc="-1" strike="noStrike">
                <a:solidFill>
                  <a:srgbClr val="01673e"/>
                </a:solidFill>
                <a:latin typeface="Times New Roman"/>
                <a:ea typeface="Times New Roman"/>
              </a:rPr>
              <a:t>for the Department of Energ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257"/>
          <p:cNvSpPr/>
          <p:nvPr/>
        </p:nvSpPr>
        <p:spPr>
          <a:xfrm>
            <a:off x="7075440" y="3624120"/>
            <a:ext cx="2071800" cy="325152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1673e">
                  <a:alpha val="8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58" descr="ORNL_leaf white"/>
          <p:cNvPicPr/>
          <p:nvPr/>
        </p:nvPicPr>
        <p:blipFill>
          <a:blip r:embed="rId3"/>
          <a:stretch/>
        </p:blipFill>
        <p:spPr>
          <a:xfrm>
            <a:off x="8037360" y="6264360"/>
            <a:ext cx="1074960" cy="557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333333"/>
            </a:outerShdw>
          </a:effectLst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120600" y="77436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876"/>
              </a:spcBef>
              <a:buClr>
                <a:srgbClr val="01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76"/>
              </a:spcBef>
              <a:buClr>
                <a:srgbClr val="0167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876"/>
              </a:spcBef>
              <a:buClr>
                <a:srgbClr val="01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876"/>
              </a:spcBef>
              <a:buClr>
                <a:srgbClr val="0167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876"/>
              </a:spcBef>
              <a:buClr>
                <a:srgbClr val="01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20240" y="154080"/>
            <a:ext cx="8775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73e"/>
                </a:solidFill>
                <a:latin typeface="Arial Black"/>
              </a:rPr>
              <a:t>Click to edit the title text format</a:t>
            </a:r>
            <a:endParaRPr b="0" lang="en-US" sz="3400" spc="-1" strike="noStrike">
              <a:solidFill>
                <a:srgbClr val="00673e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00280" y="15696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73e"/>
                </a:solidFill>
                <a:latin typeface="Arial Black"/>
              </a:rPr>
              <a:t>DOE &amp; Data</a:t>
            </a:r>
            <a:endParaRPr b="0" lang="en-US" sz="34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257800" y="2247840"/>
            <a:ext cx="3733920" cy="14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ruce Wils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ak Ridge National Laborat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0240" y="154080"/>
            <a:ext cx="877572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73e"/>
                </a:solidFill>
                <a:latin typeface="Arial Black"/>
              </a:rPr>
              <a:t>Caveats</a:t>
            </a:r>
            <a:endParaRPr b="0" lang="en-US" sz="34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20600" y="77436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876"/>
              </a:spcBef>
              <a:buClr>
                <a:srgbClr val="01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ch more going on than what I know abou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876"/>
              </a:spcBef>
              <a:buClr>
                <a:srgbClr val="01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E is a complex place, several offices and nee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876"/>
              </a:spcBef>
              <a:buClr>
                <a:srgbClr val="01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 of my contact is DOE Office of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876"/>
              </a:spcBef>
              <a:buClr>
                <a:srgbClr val="01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ngs are changing at Office of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167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a Palmisano new deputy director for Biological and Environmental Research (BE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167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mate Change Research Division position op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876"/>
              </a:spcBef>
              <a:buClr>
                <a:srgbClr val="01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e: Theresa Fryberger is a DOE alu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3"/>
          <p:cNvSpPr/>
          <p:nvPr/>
        </p:nvSpPr>
        <p:spPr>
          <a:xfrm>
            <a:off x="2519280" y="6662880"/>
            <a:ext cx="4257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1673e"/>
                </a:solidFill>
                <a:latin typeface="Times New Roman"/>
                <a:ea typeface="Times New Roman"/>
              </a:rPr>
              <a:t>Change this from View Menu | Header and Footer...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0240" y="154080"/>
            <a:ext cx="877572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73e"/>
                </a:solidFill>
                <a:latin typeface="Arial Black"/>
              </a:rPr>
              <a:t>DOE and Data Preservation</a:t>
            </a:r>
            <a:endParaRPr b="0" lang="en-US" sz="34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20600" y="77436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876"/>
              </a:spcBef>
              <a:buClr>
                <a:srgbClr val="01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mospheric Radiation Measurement (ARM) Program arch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876"/>
              </a:spcBef>
              <a:buClr>
                <a:srgbClr val="01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bon Dioxide Information and Analysis Center (CDIAC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167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eriflux data arch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167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ean carbon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167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E data arch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167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RSTO QA (data at Langley DAA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876"/>
              </a:spcBef>
              <a:buClr>
                <a:srgbClr val="01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ientific Discovery through Advanced Computing (SciDAC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167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-lab effort, includes Clim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ooter Placeholder 3"/>
          <p:cNvSpPr/>
          <p:nvPr/>
        </p:nvSpPr>
        <p:spPr>
          <a:xfrm>
            <a:off x="2519280" y="6662880"/>
            <a:ext cx="4257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1673e"/>
                </a:solidFill>
                <a:latin typeface="Times New Roman"/>
                <a:ea typeface="Times New Roman"/>
              </a:rPr>
              <a:t>Change this from View Menu | Header and Footer...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0240" y="154080"/>
            <a:ext cx="877572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73e"/>
                </a:solidFill>
                <a:latin typeface="Arial Black"/>
              </a:rPr>
              <a:t>DOE and Data Preservation</a:t>
            </a:r>
            <a:endParaRPr b="0" lang="en-US" sz="34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0600" y="77436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876"/>
              </a:spcBef>
              <a:buClr>
                <a:srgbClr val="01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rth System Grid (ESG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167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mate models, model data, model intercomparis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876"/>
              </a:spcBef>
              <a:buClr>
                <a:srgbClr val="01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ice of Science and Technical Information (OSTI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167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ience.go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167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 to DOE Science data and pub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876"/>
              </a:spcBef>
              <a:buClr>
                <a:srgbClr val="01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ibuted to several science effor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167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omics (GTL progra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ooter Placeholder 3"/>
          <p:cNvSpPr/>
          <p:nvPr/>
        </p:nvSpPr>
        <p:spPr>
          <a:xfrm>
            <a:off x="2519280" y="6662880"/>
            <a:ext cx="4257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1673e"/>
                </a:solidFill>
                <a:latin typeface="Times New Roman"/>
                <a:ea typeface="Times New Roman"/>
              </a:rPr>
              <a:t>Change this from View Menu | Header and Footer...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3:39:19Z</dcterms:created>
  <dc:creator>Bruce E. Wilson</dc:creator>
  <dc:description/>
  <dc:language>en-US</dc:language>
  <cp:lastModifiedBy>Bruce E. Wilson</cp:lastModifiedBy>
  <dcterms:modified xsi:type="dcterms:W3CDTF">2009-01-08T19:19:35Z</dcterms:modified>
  <cp:revision>33</cp:revision>
  <dc:subject/>
  <dc:title>DOE &amp; Dat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